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F46-B3EB-4C86-ACB5-F37D38AA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91B-096A-40B3-B556-367124A0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DF5-8A17-4CA9-AB02-4262BEED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88B-2754-4BF1-AB4A-C1F9F4A6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BB0-AFB2-43B6-8E5D-B9220BEE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848-193F-457F-9272-1B6E5F5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FB6-3BD2-4F84-9F54-9C0CD85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19F-AB30-4922-8043-BAEBC48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059-0394-46AC-A2B5-F1EE188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E6F-A802-41A9-A2F7-10C2D4F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1ED-34DD-4EFA-8470-6369C89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FEB-1BE2-4687-B2DF-EB26AF1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A3D-8EA5-4672-8E5C-C1CBC7550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53.photobucket.com/albums/g43/hamidraza/Manchester_United.jpg" TargetMode="External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keltonsports.com/images/soccer_balls/championship.gif" TargetMode="External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3.bp.blogspot.com/_9Xs0hWV6IlI/SwrMwRjxLLI/AAAAAAAAACw/29m06NDq9xw/s1600/Teams+020.jpg" TargetMode="External"/><Relationship Id="rId2" Type="http://schemas.openxmlformats.org/officeDocument/2006/relationships/hyperlink" Target="http://3.bp.blogspot.com/_9Xs0hWV6IlI/SwrMwRjxLLI/AAAAAAAAACw/29m06NDq9xw/s1600/Teams+020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3.bp.blogspot.com/_9Xs0hWV6IlI/SwrMv-_b8AI/AAAAAAAAACo/bIp2jjgT-HU/s1600/Teams+019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2.bp.blogspot.com/_9Xs0hWV6IlI/SwrL71zmmMI/AAAAAAAAABY/0r8E-KkF1hA/s1600/Teams+00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ams_018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ams_018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0200" y="5410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Aconsej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erdur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bk00014_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cc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verduras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bk00014_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 rot="5400000">
            <a:off x="-2743560" y="28954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lorí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86200" y="3200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492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86200" y="32763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2514600" y="990720"/>
          <a:ext cx="355752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990720"/>
                    <a:ext cx="3557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50760"/>
            <a:ext cx="7162560" cy="675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819520" y="990720"/>
          <a:ext cx="355752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990720"/>
                    <a:ext cx="3557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 txBox="1"/>
          <p:nvPr/>
        </p:nvSpPr>
        <p:spPr>
          <a:xfrm>
            <a:off x="2286000" y="380880"/>
            <a:ext cx="4300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La Energ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ruitandvegetables-main_Full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Teams+011" descr=""/>
          <p:cNvPicPr/>
          <p:nvPr/>
        </p:nvPicPr>
        <p:blipFill>
          <a:blip r:embed="rId2"/>
          <a:srcRect l="22224" t="-614" r="22221" b="0"/>
          <a:stretch/>
        </p:blipFill>
        <p:spPr>
          <a:xfrm>
            <a:off x="2362320" y="304920"/>
            <a:ext cx="4572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ruitandvegetables-main_Full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143000" y="2438280"/>
            <a:ext cx="716292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33cc33"/>
                    </a:gs>
                  </a:gsLst>
                  <a:lin ang="13500000"/>
                </a:gradFill>
                <a:latin typeface="Arial Black"/>
              </a:rPr>
              <a:t>Un dieta balances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33cc33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19836010_30a34a3271" descr=""/>
          <p:cNvPicPr/>
          <p:nvPr/>
        </p:nvPicPr>
        <p:blipFill>
          <a:blip r:embed="rId1"/>
          <a:srcRect l="0" t="11999" r="22398" b="30669"/>
          <a:stretch/>
        </p:blipFill>
        <p:spPr>
          <a:xfrm>
            <a:off x="304920" y="1981080"/>
            <a:ext cx="331776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96442418_49a3808229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1051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ams_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14600" y="1371600"/>
            <a:ext cx="4619520" cy="30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entrenars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81080" y="457200"/>
          <a:ext cx="5119920" cy="58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57200"/>
                    <a:ext cx="51199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133720" y="228600"/>
          <a:ext cx="4645080" cy="52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28600"/>
                    <a:ext cx="46450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 txBox="1"/>
          <p:nvPr/>
        </p:nvSpPr>
        <p:spPr>
          <a:xfrm>
            <a:off x="2971800" y="5715000"/>
            <a:ext cx="3314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Consej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eams+02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6002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Times New Roman"/>
              </a:rPr>
              <a:t>Estirarse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ams+01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lajar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ams_00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0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El estré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ams+00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143000"/>
            <a:ext cx="45705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304920"/>
            <a:ext cx="5181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recer</a:t>
            </a:r>
            <a:endParaRPr b="0" lang="en-US" sz="2400" spc="1" strike="noStrike">
              <a:ln w="349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6" name="3519836010_30a34a3271" descr=""/>
          <p:cNvPicPr/>
          <p:nvPr/>
        </p:nvPicPr>
        <p:blipFill>
          <a:blip r:embed="rId1"/>
          <a:srcRect l="0" t="11999" r="22398" b="30669"/>
          <a:stretch/>
        </p:blipFill>
        <p:spPr>
          <a:xfrm>
            <a:off x="228600" y="3048120"/>
            <a:ext cx="331776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96442418_49a3808229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5105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ams%20Sweat%20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w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533520"/>
            <a:ext cx="4152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ud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ams+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eams+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676520" y="68580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El atletis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ams+0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ams+00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895480" y="5686560"/>
            <a:ext cx="38862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lance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alud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ud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914400"/>
            <a:ext cx="784872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ALUDABLE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ams+010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3880" y="152280"/>
            <a:ext cx="59151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ntenerse Sano(a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Teams+010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ams+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38080" y="2438280"/>
            <a:ext cx="72392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utritivo(a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17:09Z</dcterms:created>
  <dc:creator>user2</dc:creator>
  <dc:description/>
  <dc:language>en-US</dc:language>
  <cp:lastModifiedBy>user2</cp:lastModifiedBy>
  <dcterms:modified xsi:type="dcterms:W3CDTF">2009-11-24T16:20:21Z</dcterms:modified>
  <cp:revision>2</cp:revision>
  <dc:subject/>
  <dc:title>Vocabulario</dc:title>
</cp:coreProperties>
</file>